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0560" y="4256640"/>
            <a:ext cx="889308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056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780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0560" y="4256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7640" y="4256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4720" y="4256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560" y="274320"/>
            <a:ext cx="889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5056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0780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560" y="4256640"/>
            <a:ext cx="889308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0560" y="4256640"/>
            <a:ext cx="889308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0780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0560" y="4256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7640" y="4256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64720" y="4256640"/>
            <a:ext cx="2863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50560" y="274320"/>
            <a:ext cx="889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056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7800" y="4256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4256640"/>
            <a:ext cx="889308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izikaSlaid"/>
          <p:cNvPicPr/>
          <p:nvPr/>
        </p:nvPicPr>
        <p:blipFill>
          <a:blip r:embed="rId2"/>
          <a:stretch/>
        </p:blipFill>
        <p:spPr>
          <a:xfrm>
            <a:off x="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FizikaMaster"/>
          <p:cNvPicPr/>
          <p:nvPr/>
        </p:nvPicPr>
        <p:blipFill>
          <a:blip r:embed="rId2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cior.edu.ru/card/7940/skazuemoe-i-ego-tipy.html" TargetMode="External"/><Relationship Id="rId2" Type="http://schemas.openxmlformats.org/officeDocument/2006/relationships/hyperlink" Target="http://www.fcior.edu.ru/card/8617/sostavnoe-imennoe-skazuemoe.html" TargetMode="External"/><Relationship Id="rId3" Type="http://schemas.openxmlformats.org/officeDocument/2006/relationships/hyperlink" Target="http://www.fcior.edu.ru/card/4178/sostavnoe-imennoe-skazuemoe.html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icey.net/" TargetMode="External"/><Relationship Id="rId2" Type="http://schemas.openxmlformats.org/officeDocument/2006/relationships/hyperlink" Target="http://www.gramota.ru/" TargetMode="External"/><Relationship Id="rId3" Type="http://schemas.openxmlformats.org/officeDocument/2006/relationships/hyperlink" Target="http://school-collection.edu.ru/" TargetMode="External"/><Relationship Id="rId4" Type="http://schemas.openxmlformats.org/officeDocument/2006/relationships/hyperlink" Target="http://school-collection.edu.ru/" TargetMode="External"/><Relationship Id="rId5" Type="http://schemas.openxmlformats.org/officeDocument/2006/relationships/hyperlink" Target="http://school-collection.edu.ru/" TargetMode="External"/><Relationship Id="rId6" Type="http://schemas.openxmlformats.org/officeDocument/2006/relationships/hyperlink" Target="http://school-collection.edu.ru/" TargetMode="External"/><Relationship Id="rId7" Type="http://schemas.openxmlformats.org/officeDocument/2006/relationships/hyperlink" Target="http://school-collection.edu.ru/" TargetMode="External"/><Relationship Id="rId8" Type="http://schemas.openxmlformats.org/officeDocument/2006/relationships/hyperlink" Target="http://school-collection.edu.ru/" TargetMode="External"/><Relationship Id="rId9" Type="http://schemas.openxmlformats.org/officeDocument/2006/relationships/hyperlink" Target="http://school-collection.edu.ru/" TargetMode="External"/><Relationship Id="rId10" Type="http://schemas.openxmlformats.org/officeDocument/2006/relationships/hyperlink" Target="http://www.ioffe.ru/" TargetMode="External"/><Relationship Id="rId11" Type="http://schemas.openxmlformats.org/officeDocument/2006/relationships/hyperlink" Target="http://to-name.ru/" TargetMode="External"/><Relationship Id="rId12" Type="http://schemas.openxmlformats.org/officeDocument/2006/relationships/hyperlink" Target="http://to-name.ru/" TargetMode="External"/><Relationship Id="rId13" Type="http://schemas.openxmlformats.org/officeDocument/2006/relationships/hyperlink" Target="http://to-name.ru/" TargetMode="External"/><Relationship Id="rId14" Type="http://schemas.openxmlformats.org/officeDocument/2006/relationships/hyperlink" Target="http://to-name.ru/" TargetMode="External"/><Relationship Id="rId15" Type="http://schemas.openxmlformats.org/officeDocument/2006/relationships/hyperlink" Target="http://to-name.ru/" TargetMode="External"/><Relationship Id="rId16" Type="http://schemas.openxmlformats.org/officeDocument/2006/relationships/hyperlink" Target="http://to-name.ru/biography/abram-ioffe.htm" TargetMode="External"/><Relationship Id="rId17" Type="http://schemas.openxmlformats.org/officeDocument/2006/relationships/hyperlink" Target="http://to-name.ru/biography/abram-ioffe.htm" TargetMode="External"/><Relationship Id="rId18" Type="http://schemas.openxmlformats.org/officeDocument/2006/relationships/hyperlink" Target="http://to-name.ru/biography/abram-ioffe.htm" TargetMode="External"/><Relationship Id="rId19" Type="http://schemas.openxmlformats.org/officeDocument/2006/relationships/hyperlink" Target="http://to-name.ru/biography/abram-ioffe.htm" TargetMode="External"/><Relationship Id="rId20" Type="http://schemas.openxmlformats.org/officeDocument/2006/relationships/hyperlink" Target="http://to-name.ru/biography/abram-ioffe.htm" TargetMode="External"/><Relationship Id="rId21" Type="http://schemas.openxmlformats.org/officeDocument/2006/relationships/hyperlink" Target="http://to-name.ru/biography/abram-ioffe.htm" TargetMode="External"/><Relationship Id="rId22" Type="http://schemas.openxmlformats.org/officeDocument/2006/relationships/hyperlink" Target="http://to-name.ru/biography/abram-ioffe.htm" TargetMode="External"/><Relationship Id="rId23" Type="http://schemas.openxmlformats.org/officeDocument/2006/relationships/hyperlink" Target="http://dic.academic.ru/" TargetMode="External"/><Relationship Id="rId24" Type="http://schemas.openxmlformats.org/officeDocument/2006/relationships/hyperlink" Target="http://dic.academic.ru/" TargetMode="External"/><Relationship Id="rId25" Type="http://schemas.openxmlformats.org/officeDocument/2006/relationships/hyperlink" Target="http://dic.academic.ru/" TargetMode="External"/><Relationship Id="rId26" Type="http://schemas.openxmlformats.org/officeDocument/2006/relationships/hyperlink" Target="http://dic.academic.ru/" TargetMode="External"/><Relationship Id="rId27" Type="http://schemas.openxmlformats.org/officeDocument/2006/relationships/hyperlink" Target="http://dic.academic.ru/" TargetMode="External"/><Relationship Id="rId28" Type="http://schemas.openxmlformats.org/officeDocument/2006/relationships/hyperlink" Target="http://dic.academic.ru/dic.nsf/enc_biography/47487/&#1048;&#1086;&#1092;&#1092;&#1077;" TargetMode="External"/><Relationship Id="rId29" Type="http://schemas.openxmlformats.org/officeDocument/2006/relationships/hyperlink" Target="http://dic.academic.ru/dic.nsf/enc_biography/47487/&#1048;&#1086;&#1092;&#1092;&#1077;" TargetMode="External"/><Relationship Id="rId30" Type="http://schemas.openxmlformats.org/officeDocument/2006/relationships/hyperlink" Target="http://dic.academic.ru/dic.nsf/enc_biography/47487/&#1048;&#1086;&#1092;&#1092;&#1077;" TargetMode="External"/><Relationship Id="rId31" Type="http://schemas.openxmlformats.org/officeDocument/2006/relationships/hyperlink" Target="http://dic.academic.ru/dic.nsf/enc_biography/47487/&#1048;&#1086;&#1092;&#1092;&#1077;" TargetMode="External"/><Relationship Id="rId32" Type="http://schemas.openxmlformats.org/officeDocument/2006/relationships/hyperlink" Target="http://dic.academic.ru/dic.nsf/enc_biography/47487/&#1048;&#1086;&#1092;&#1092;&#1077;" TargetMode="External"/><Relationship Id="rId33" Type="http://schemas.openxmlformats.org/officeDocument/2006/relationships/hyperlink" Target="http://dic.academic.ru/dic.nsf/enc_biography/47487/&#1048;&#1086;&#1092;&#1092;&#1077;" TargetMode="External"/><Relationship Id="rId34" Type="http://schemas.openxmlformats.org/officeDocument/2006/relationships/hyperlink" Target="http://dic.academic.ru/dic.nsf/enc_biography/47487/&#1048;&#1086;&#1092;&#1092;&#1077;" TargetMode="External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24360" y="1196640"/>
            <a:ext cx="5038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ставное именное сказу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929120" y="4076280"/>
            <a:ext cx="42148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ель: Куляшова Лилия Владимировна, учитель русского языка и литературы ГБОУ СОШ 797 г.Моск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71400"/>
            <a:ext cx="93582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С =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ВЯЗКА + ИМЕННАЯ ЧАСТЬ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4200" y="499680"/>
            <a:ext cx="907272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оффе А. Ф.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одился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в1880 г. на Полтавщине в семье интеллигентов. Абрам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чал  читать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же в трехлетнем возрас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оффе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ыл трудолюбывы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>
            <a:off x="4572000" y="1428840"/>
            <a:ext cx="22147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8"/>
          <p:cNvSpPr/>
          <p:nvPr/>
        </p:nvSpPr>
        <p:spPr>
          <a:xfrm>
            <a:off x="4572000" y="1500120"/>
            <a:ext cx="22147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2"/>
          <p:cNvSpPr/>
          <p:nvPr/>
        </p:nvSpPr>
        <p:spPr>
          <a:xfrm>
            <a:off x="2786040" y="3357720"/>
            <a:ext cx="37861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4"/>
          <p:cNvSpPr/>
          <p:nvPr/>
        </p:nvSpPr>
        <p:spPr>
          <a:xfrm>
            <a:off x="2786040" y="3429000"/>
            <a:ext cx="37861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6"/>
          <p:cNvSpPr/>
          <p:nvPr/>
        </p:nvSpPr>
        <p:spPr>
          <a:xfrm>
            <a:off x="3000240" y="4786200"/>
            <a:ext cx="450072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8"/>
          <p:cNvSpPr/>
          <p:nvPr/>
        </p:nvSpPr>
        <p:spPr>
          <a:xfrm>
            <a:off x="3000240" y="4857840"/>
            <a:ext cx="450072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брам в четыре года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учился писать.(1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знава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зы науки он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тал(2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реальном училище, где преподавание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шло формально.(3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1897 году Иоффе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чинает учиться(4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тербургском технологическом институте. Молодой Иоффе много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читает.(5)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 лет  самостоятельн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уководит (6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ительством железнодорожного моста на линии Полтава-Ростов. В конце 1902 года А.Ф.Иоффе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должает учиться (7)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Герман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71760" y="5857920"/>
          <a:ext cx="6095880" cy="9144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П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СГ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С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1,2,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4240" y="3500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.Иоффе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чился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в физической школе Рентге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Физик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покорил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научные вершины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5880" y="1428840"/>
          <a:ext cx="7858080" cy="196056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19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Иоффе </a:t>
                      </a: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стремился учиться </a:t>
                      </a:r>
                      <a:r>
                        <a:rPr b="1" lang="ru-RU" sz="40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в физической школе Рентген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85880" y="3429000"/>
          <a:ext cx="7858080" cy="1714680"/>
        </p:xfrm>
        <a:graphic>
          <a:graphicData uri="http://schemas.openxmlformats.org/drawingml/2006/table">
            <a:tbl>
              <a:tblPr/>
              <a:tblGrid>
                <a:gridCol w="785808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Физиком </a:t>
                      </a:r>
                      <a:r>
                        <a:rPr b="1" lang="ru-RU" sz="4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были покорены </a:t>
                      </a:r>
                      <a:r>
                        <a:rPr b="1" lang="ru-RU" sz="44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научные вершины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удент-Иоффе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двинул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дею магнитной фокусировки, которая сегодня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шл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самое широкое применение в электронной оптик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71760" y="1571760"/>
          <a:ext cx="6095880" cy="761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мел выдвинуть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de1"/>
                    </a:solidFill>
                  </a:tcPr>
                </a:tc>
              </a:tr>
            </a:tbl>
          </a:graphicData>
        </a:graphic>
      </p:graphicFrame>
      <p:sp>
        <p:nvSpPr>
          <p:cNvPr id="116" name="TextBox 4"/>
          <p:cNvSpPr/>
          <p:nvPr/>
        </p:nvSpPr>
        <p:spPr>
          <a:xfrm>
            <a:off x="1285920" y="2428920"/>
            <a:ext cx="6858000" cy="7642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родолжает наход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480" y="71424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ентген и Иоффе  были увлечены работой над эл…ктрическими свойствами кристалл(л)ов  (в )течени…10 лет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В годы учёбы Иоффе очень старалс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 Физические опыты Иоффе в школе Рентгена удалис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857232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В 1905 году Иоффе с «наивысшей похвалой» защитил в Мюнхенском университете докторскую диссерт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 Действительно, сам Рентген предложил молодому ученому остаться у него в Мюнхене в должности професс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Иоффе считал, что гражданский долг не позволяет ему оставаться вне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Результаты опытов по измерению заряда  электрона Р.Милликена и Иоффе полностью совпад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Работа Р.Милликена была опубликована 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По инициативе Иоффе в 1918 году  был открыт Государственный рентгенологический институт и радиологический институт, затем единственный в мире Агрофизический инстит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тветы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 – ПГП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 – СГ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– ПГП; СГ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 – ПГП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 – СИС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6 – СИС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" y="714240"/>
            <a:ext cx="8786880" cy="642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закрепить сведения о ПГС и СГС; познакомить с СИС; формировать умение различать виды сказуемых, сравнивать, анализировать похожие языковые яв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азвивать умение анализировать текст, оперировать терминами, строить связное устное высказывание, развивать способность объединять изученные сведения в сист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спитывать речевую культуру, формировать интерес к истории точных наук и учёным-физикам на материале биографии Абрама  Федоровича Иофф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2160" y="92844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 ты не заметил², что способный к математике изощрен во всех науках в природе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т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овать² за мыслями великого человека есть наука самая занимательная.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шкин А.С.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" descr="http://im5-tub-ru.yandex.net/i?id=591269014-37-72&amp;n=21"/>
          <p:cNvPicPr/>
          <p:nvPr/>
        </p:nvPicPr>
        <p:blipFill>
          <a:blip r:embed="rId1"/>
          <a:stretch/>
        </p:blipFill>
        <p:spPr>
          <a:xfrm>
            <a:off x="7643880" y="1785960"/>
            <a:ext cx="1676160" cy="128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http://im2-tub-ru.yandex.net/i?id=92249317-27-72&amp;n=21"/>
          <p:cNvPicPr/>
          <p:nvPr/>
        </p:nvPicPr>
        <p:blipFill>
          <a:blip r:embed="rId2"/>
          <a:stretch/>
        </p:blipFill>
        <p:spPr>
          <a:xfrm>
            <a:off x="7500960" y="5429160"/>
            <a:ext cx="1785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МАШНЕЕ ЗАДАНИ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4200" y="499680"/>
            <a:ext cx="907272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змещено в электронном журнале школы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читаю по учебнику §2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ст «Составное глагольное сказуемое» (выполнение через использование П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cior.edu.ru/card/7940/skazuemoe-i-ego-tipy.htm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- №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торить теорию через информационный ресурс: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cior.edu.ru/card/8617/sostavnoe-imennoe-skazuemoe.htm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- №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ектронные упражн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cior.edu.ru/card/4178/sostavnoe-imennoe-skazuemoe.htm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- №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534160" cy="5500800"/>
          </a:xfrm>
          <a:prstGeom prst="rect">
            <a:avLst/>
          </a:prstGeom>
          <a:solidFill>
            <a:srgbClr val="19194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вы уже устали —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ли-встали,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ли-встали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страшны вам Арктика с Антарктикой.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Главный академик Иофф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казал — коньяк и кофе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м заменят спорт и профи-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ак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32000" y="4076280"/>
            <a:ext cx="4211640" cy="20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0" name="Владимир Высоцкий - Утренняя гимнастика.mp3" descr=""/>
          <p:cNvPicPr/>
          <p:nvPr/>
        </p:nvPicPr>
        <p:blipFill>
          <a:blip r:embed="rId1"/>
          <a:stretch/>
        </p:blipFill>
        <p:spPr>
          <a:xfrm>
            <a:off x="5500800" y="53578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i073.radikal.ru/1103/19/e608381093e7.gif"/>
          <p:cNvPicPr/>
          <p:nvPr/>
        </p:nvPicPr>
        <p:blipFill>
          <a:blip r:embed="rId2"/>
          <a:stretch/>
        </p:blipFill>
        <p:spPr>
          <a:xfrm>
            <a:off x="6429240" y="2143080"/>
            <a:ext cx="166716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1984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357120" y="1500120"/>
            <a:ext cx="8786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Егорова Н.В., Горшкова В.Н. Универсальные поурочные разработки по русскому языку. 8 класс. 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ко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Богданова Г.А.Уроки русского языка в 8 классе: Кн. для учителя. М.: Просвещение,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Материалы  сайта http ://www.portal-slovo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Материалы  сайта http ://www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zumnik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Материалы  сайта www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cey.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Материалы  сайта www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amo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Материалы  сайта www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hool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llection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Материалы  сайта www.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off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Материалы  сайта www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o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am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r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›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iograph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bra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ioffe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Материалы  сайта www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di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academi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r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›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di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nsf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enc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_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biograph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/47487/Иофф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Материалы  сайта 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coz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Иллюстрация сайта www. andid.ucoz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ллюстрация сайта www. forum.myjackson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льный фай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poiskm.r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›song/220326…Utrennyaya-gimna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имац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www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veinternet.ru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…ссертация, эф(ф)ективный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экспер…мент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асть гипоте(з,с)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к(к)уратн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143080" y="578628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из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29livres2.gif"/>
          <p:cNvPicPr/>
          <p:nvPr/>
        </p:nvPicPr>
        <p:blipFill>
          <a:blip r:embed="rId1"/>
          <a:stretch/>
        </p:blipFill>
        <p:spPr>
          <a:xfrm>
            <a:off x="7429680" y="44290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571680"/>
            <a:ext cx="8893080" cy="58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рамматическая основа предложения – это … и …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По строению грамматической основы предложения делятся на … и … 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Грамматическая основа простых предложений состоит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з … 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рамматическая основа сложных предложений состоит из … 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Грамматическая основа двусоставных предложений состоит из … 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Грамматическая основа односоставных предложений состоит из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длежащее – это … член предложения, который связан со … и отвечает на вопросы … или … 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Сказуемое – это … член предложения, который обозначает … и отвечает на вопросы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азуемые бывают… и составные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Составное глагольное сказуемое состоит из… и …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рамматическое значение составного глагольного сказуемого выражается в …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357120"/>
            <a:ext cx="7772400" cy="614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новное лексическое значение составного глагольного сказуемого заключено в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аще всего в качестве вспомогательных глаголов употребляются фазовые глаголы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стать,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роли вспомогательных глаголов могут выступать сочетания некоторых … и …в форме одного из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57280" y="1428840"/>
            <a:ext cx="6786720" cy="3000240"/>
          </a:xfrm>
          <a:prstGeom prst="rect">
            <a:avLst/>
          </a:prstGeom>
          <a:solidFill>
            <a:srgbClr val="1919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ное именное сказуем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932000" y="3714840"/>
            <a:ext cx="421164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Абрам Фёдорович Иофф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D:\Users\Liliya\Desktop\ИОФФЕ\Снимок2.PNG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9:07:00Z</dcterms:created>
  <dc:creator>Liliya</dc:creator>
  <dc:description/>
  <dc:language>en-US</dc:language>
  <cp:lastModifiedBy>Liliya</cp:lastModifiedBy>
  <dcterms:modified xsi:type="dcterms:W3CDTF">2012-11-25T15:30:21Z</dcterms:modified>
  <cp:revision>34</cp:revision>
  <dc:subject/>
  <dc:title>Составное именное сказуемое</dc:title>
</cp:coreProperties>
</file>